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C1D0-CAE2-4F55-A56D-649856D5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69A8-8A63-4A4D-87D0-6D939E79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BD6A-9E63-43DD-85D4-1D2D407D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5A0-B67D-4DA2-A707-9626C13C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F33F-A596-474F-9651-5E5B1F1D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E41-2698-4FEE-8167-2D98B69C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1AA4-F802-4BB1-8E0B-37CE9FA3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041-0DBC-4849-8FAD-4A5E188A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BB6F-4404-41AB-92A5-83F49638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EF0A-D8DD-4F19-BFD8-8EB2253E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076-3BA1-4287-B7A3-7B495129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D22-116E-4F76-B14D-F17CC0E3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A838-E072-4F33-9109-69D53D291B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79280" y="2276280"/>
            <a:ext cx="45356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6e5552"/>
                </a:solidFill>
                <a:latin typeface="Myriad Pro"/>
              </a:rPr>
              <a:t>www.FreepptBackgrounds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6"/>
          <p:cNvSpPr/>
          <p:nvPr/>
        </p:nvSpPr>
        <p:spPr>
          <a:xfrm>
            <a:off x="1835280" y="1557360"/>
            <a:ext cx="60483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595959"/>
                </a:solidFill>
                <a:latin typeface="Myriad Pro"/>
              </a:rPr>
              <a:t>Free PPT Backg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hiko</cp:lastModifiedBy>
  <dcterms:modified xsi:type="dcterms:W3CDTF">2013-01-30T20:22:47Z</dcterms:modified>
  <cp:revision>755</cp:revision>
  <dc:subject/>
  <dc:title>Diapositiva 1</dc:title>
</cp:coreProperties>
</file>